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9804-07FD-459C-B821-34CFF6D0F20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302D-E41C-4B73-A6C1-6E009375DD3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549E-8244-4BD0-9CEF-A550F85D5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033-4737-49FA-901C-C3AB238E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E71-1C5E-4C6D-8B62-AEAC35CFF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073-CFFA-42B9-8CAF-27BCCA2D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00D30-9B51-444B-9819-C63440548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4A415-FCD2-4C03-AB94-C7541A6D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4C95C-E1A1-4A0C-9CD8-5B177B1B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13534-AF0A-40BD-A4CB-9F543E79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18C2C-B823-44EB-A056-B32A1237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F31FA-E892-4BFD-8196-2C1D6D30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9B9C8-91C9-4BEE-8BA4-1DC24AA1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A2CC-8160-4F85-B779-259132C0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FF486-F85B-4409-BB63-092D1020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9388F-ED52-4396-8AD8-114F6194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B2EAB-60C1-40B8-9872-0A8FAD9C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D4396-2DB9-4D15-B9E4-A1330386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F4B05-1D10-4DA5-877B-97B956737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872DE-A78F-4ABA-AE7A-08E9879E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DC5C7-9212-4399-9850-551CB294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747EF-C4E9-4C3A-93C4-D4890AD9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18A5D5-224F-497C-BB63-4EBB7BAF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9DAE52-13EE-44E3-A875-AEFF41C7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6F91-0950-49EC-A03F-9ACC81AF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A9654-7EA8-4185-B1C3-65B6B7FC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C5431F-F91E-4695-ACF1-3B9DE4A8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46A161-79FE-4FEF-9D53-43ADE057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A9EF57-858F-4FD8-926A-4CED67AB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905BE9-D12B-4AEC-A224-1EC8E4D5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F4DF9-FE85-45DA-808B-FD5D92D1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01A6E-7E51-4EC5-A30F-B5A96010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0FE33-7AFA-4C38-BA57-BB5E6959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CE180-A61D-471F-B66D-F55DB775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D8FF-12E9-49D1-AF9C-EC671991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852-6D47-41A7-8F23-4948AFD3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ED522-B0EA-4097-9CF2-F4E9369B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60D27-2164-45A1-A951-2C955580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24285-E279-4CB7-9551-437F0480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F943-D1F7-494E-AE2E-A39F90B5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98E78-B1F1-4AD6-99A1-0444C72E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9F582-EA66-4C21-B4F6-ED12DED9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97AF-63C0-4D70-AA25-7738A78BA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8EA93-6E20-4BD0-A968-495D7F7F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BE694-BB05-48AC-B3DC-51D0C058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810F9-0BB3-4B72-8F38-447517A96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B7D4-D7B9-49A3-953F-B0A7542A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F788-9B07-4F06-81E8-9CEC8DA3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6B0E1-21AF-478D-93E2-C21608C7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23C37-033F-484D-A62F-9516854A5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8A0ADD-0B72-4B3C-A489-0E1B51D7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1FC8F-DA05-4A9C-8075-536DD921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A8471-28DB-408F-B901-DCD54C8A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7C4A-1160-4ED4-BDC7-C6C79FDB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FEF6-1872-41EB-A928-A070EF84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F0532-567A-4793-BA58-48980959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990F3-DC83-4968-B293-6AB7046C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9DD-CA61-4B61-98E2-F4B498D2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23815-C06F-4024-A0C1-08EC534A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A2252-B9AE-4EF4-A3DD-E0E058DA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00EA4-34B7-4C4A-9C80-5BA738A8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8DDE-00D5-49B4-93D2-FA35846E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12C6F-1D8D-4C2A-92BF-283313D0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8021A-F4AF-4F35-9EA1-5C45CFB1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72F45-721D-47EA-95FC-C4AE7AE7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CAA1E-9288-4976-9553-B8524C0C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2C64D-7851-44B8-A7D3-B776A320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66846-79EA-42B4-B4F9-A4A3837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2EA6-524F-4972-89A1-38878DAC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EC7CA-7A31-4694-822E-E6F39DB4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6EDA3-A956-4214-B949-D9C9323C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141E9-721E-478B-A228-3498292C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70778-8DF4-43DB-95B8-A544537F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62AAE-D82D-4E82-8156-6F34161E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0C868-180D-440F-A298-4F7BC08E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BE204-9DB8-476B-AD93-59102F50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0709B-B6BE-49A4-A0DD-0412852E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26F06-3B4D-4445-9ED4-3E6DCF05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A02E5-3CFA-48D5-8D27-9FA60D3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56D4-C3BD-416F-B064-AF04FBDC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E3327-347B-45F8-A82C-CA985BAF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811A5-D018-4BA8-92D4-5ADAFACE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1862-1AC4-495D-BB8D-7FF7E97A8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37060-75FE-4151-815F-C9B4FE1BF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6B6CF-59FE-4AFD-AF28-D3F3568E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2957-2A08-4A7C-A420-D75FFA33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03F8-6926-4CD2-9725-84DD8B388921}" type="slidenum">
              <a:rPr b="0" lang="en-A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HHD12_bnr.jpg"/>
          <p:cNvPicPr/>
          <p:nvPr/>
        </p:nvPicPr>
        <p:blipFill>
          <a:blip r:embed="rId2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BC16-976F-4E65-8C1E-17C6B4EABDC4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B578-065D-421C-A30D-642E4404BF72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DAAB0-69AE-42F4-BD3A-9BE733C93CDA}" type="slidenum">
              <a:rPr b="0" lang="en-A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697A-7444-4244-9754-550DCDB4661D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CD32-E8E1-44BD-84D3-2E211BEFE017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5DC4-95C5-46E7-ABE9-F754932AE649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Franklin Gothic Medium"/>
              </a:rPr>
              <a:t>Chapter 2: Understanding Youth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ranklin Gothic Medium"/>
              </a:rPr>
              <a:t>AREA OF STUDY 2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Franklin Gothic Medium"/>
              </a:rPr>
              <a:t>YOUTH HEALTH AND DEVELOPMENT</a:t>
            </a:r>
            <a:endParaRPr b="0" lang="en-US" sz="3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360"/>
            <a:ext cx="840744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riod of the human lifespan between the ages of 12 and 18 years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 transition between childhood and adulthood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ther words for youth include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teenager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adolescents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Early Youth: age 12-14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Middle Youth: age 15-16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Late Youth: age 17-18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4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DEFINING YOUTH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Franklin Gothic Medium"/>
              </a:rPr>
              <a:t>PAGE 30-33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44960" cy="5165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324000" y="79704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What experiences have you had so far that signify you are experiencing a transition phase from childhood to adulth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Medium"/>
              </a:rPr>
              <a:t>Many changes occur during youth</a:t>
            </a:r>
            <a:r>
              <a:rPr b="0" lang="en-AU" sz="3200" spc="-1" strike="noStrike">
                <a:solidFill>
                  <a:srgbClr val="00b0f0"/>
                </a:solidFill>
                <a:latin typeface="Franklin Gothic Medium"/>
              </a:rPr>
              <a:t>, can you identify some of these changes?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changes that occur as part of youth development can be grouped as: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hysical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ocial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otional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ntellectual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YOUTH DEVELOPME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0880" y="1989000"/>
            <a:ext cx="8407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Physical development during youth is rapid, including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hange in size of bones and muscl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hange in height and weig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xual development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51"/>
              </a:spcBef>
              <a:buClr>
                <a:srgbClr val="928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imary sexual development (sex organ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51"/>
              </a:spcBef>
              <a:buClr>
                <a:srgbClr val="928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Secondary sexual development (other changes – e.g. hair, development of breasts and widening of hips in females, deepening of voice and broadening of shoulders in male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Franklin Gothic Medium"/>
              </a:rPr>
              <a:t>Activity 2.2 Questions 1-6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Franklin Gothic Medium"/>
              </a:rPr>
              <a:t>Activity 2.3 Questions 1-5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Franklin Gothic Medium"/>
              </a:rPr>
              <a:t>Homework</a:t>
            </a:r>
            <a:r>
              <a:rPr b="1" i="1" lang="en-US" sz="1800" spc="-1" strike="noStrike">
                <a:solidFill>
                  <a:srgbClr val="c00000"/>
                </a:solidFill>
                <a:latin typeface="Franklin Gothic Medium"/>
              </a:rPr>
              <a:t>: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Franklin Gothic Medium"/>
              </a:rPr>
              <a:t>Read page 38-43 and answer Activity 2.4 (pg 43-44) Questions 1-7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CHARACTERISTICS OF PHYSICAL DEVELOPMENT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PAGE 34-43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n important part of youth development is forming social relationship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er-group relationships are critical as is establishing an identity and being accepted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Franklin Gothic Medium"/>
              </a:rPr>
              <a:t>Self-esteem is a key characteristic of youth development, how might positive self esteem develop in youth? What about  negative self esteem?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34949"/>
                </a:solidFill>
                <a:latin typeface="Franklin Gothic Medium"/>
              </a:rPr>
              <a:t>Activity 2.5 (pg 46) Questions 1-6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SOCI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ccurs as an individual develops the capacity to think in broader terms, to conceptualise complex issues and to see how things are connected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Franklin Gothic Medium"/>
              </a:rPr>
              <a:t>Youth intellectual development is not only represented by academic success, how else might it be represented?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43912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INTELLECTU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 youth stage of the lifespan is characterised by individuals increasingly understanding their emotions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otional development includes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anaging changing relationship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eeting basic need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anaging grief and los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Coping with stres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6784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EMOTION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2:29:01Z</dcterms:created>
  <dc:creator>charlesc1</dc:creator>
  <dc:description/>
  <dc:language>en-US</dc:language>
  <cp:lastModifiedBy>08470047</cp:lastModifiedBy>
  <dcterms:modified xsi:type="dcterms:W3CDTF">2011-02-28T04:42:54Z</dcterms:modified>
  <cp:revision>38</cp:revision>
  <dc:subject/>
  <dc:title>Slide 1</dc:title>
</cp:coreProperties>
</file>